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1A48C734-2586-4549-BB88-84F3362DB4FA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BDD1EF4B-A95A-49E6-BB33-88BE5DE0179F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025640" y="1752480"/>
            <a:ext cx="655308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Exercise: PSP0 Grading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pload the Grading Checklis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23278" r="926" b="0"/>
          <a:stretch/>
        </p:blipFill>
        <p:spPr>
          <a:xfrm>
            <a:off x="457200" y="1625760"/>
            <a:ext cx="8153280" cy="27781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905280" y="4681440"/>
            <a:ext cx="4781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en you have finished grading the assignment, upload the filled-in grading checklis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te, you can only upload a single fil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23" name="Straight Arrow Connector 6"/>
          <p:cNvCxnSpPr/>
          <p:nvPr/>
        </p:nvCxnSpPr>
        <p:spPr>
          <a:xfrm flipH="1" flipV="1">
            <a:off x="5390640" y="3945960"/>
            <a:ext cx="610560" cy="8262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ssign a Gra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rcRect l="0" t="19910" r="925" b="0"/>
          <a:stretch/>
        </p:blipFill>
        <p:spPr>
          <a:xfrm>
            <a:off x="76320" y="1568520"/>
            <a:ext cx="8153280" cy="35892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4762440" y="4226040"/>
            <a:ext cx="438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sign a grade to the assignment: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 - a resubmit is required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0 - the assignment is accept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27" name="Straight Arrow Connector 6"/>
          <p:cNvCxnSpPr>
            <a:stCxn id="126" idx="0"/>
          </p:cNvCxnSpPr>
          <p:nvPr/>
        </p:nvCxnSpPr>
        <p:spPr>
          <a:xfrm flipH="1" flipV="1">
            <a:off x="4876560" y="3701520"/>
            <a:ext cx="2077200" cy="5248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128" name="TextBox 7"/>
          <p:cNvSpPr/>
          <p:nvPr/>
        </p:nvSpPr>
        <p:spPr>
          <a:xfrm>
            <a:off x="1295280" y="586440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You may send a short text message to the student using the </a:t>
            </a:r>
            <a:r>
              <a:rPr b="1" i="1" lang="en-US" sz="2000" spc="-1" strike="noStrike">
                <a:solidFill>
                  <a:srgbClr val="39536b"/>
                </a:solidFill>
                <a:latin typeface="Arial"/>
              </a:rPr>
              <a:t>Discussion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featur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29" name="Straight Arrow Connector 9"/>
          <p:cNvCxnSpPr>
            <a:stCxn id="128" idx="0"/>
          </p:cNvCxnSpPr>
          <p:nvPr/>
        </p:nvCxnSpPr>
        <p:spPr>
          <a:xfrm flipV="1">
            <a:off x="3733920" y="5114520"/>
            <a:ext cx="95760" cy="7502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7644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ing Checklists on Paper for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17360" y="1564920"/>
            <a:ext cx="32986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checklists are on your student C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grading checklists provide a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isciplined way of checking student assignmen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cise form for delivering feedback to studen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checklists ar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ilored by leve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artitioned by for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5119560" y="1658880"/>
            <a:ext cx="3411720" cy="4411800"/>
          </a:xfrm>
          <a:prstGeom prst="rect">
            <a:avLst/>
          </a:prstGeom>
          <a:ln w="0">
            <a:noFill/>
          </a:ln>
        </p:spPr>
      </p:pic>
      <p:sp>
        <p:nvSpPr>
          <p:cNvPr id="133" name="Line 5"/>
          <p:cNvSpPr/>
          <p:nvPr/>
        </p:nvSpPr>
        <p:spPr>
          <a:xfrm flipV="1">
            <a:off x="3152880" y="1903320"/>
            <a:ext cx="3168720" cy="3416400"/>
          </a:xfrm>
          <a:prstGeom prst="line">
            <a:avLst/>
          </a:prstGeom>
          <a:ln w="25560">
            <a:solidFill>
              <a:srgbClr val="87abb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3508200" y="4581000"/>
            <a:ext cx="1711440" cy="1111320"/>
          </a:xfrm>
          <a:prstGeom prst="line">
            <a:avLst/>
          </a:prstGeom>
          <a:ln w="25560">
            <a:solidFill>
              <a:srgbClr val="87abb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ing Checklists: Examp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497640" y="1906560"/>
            <a:ext cx="2133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Use this area for overall commen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756480" y="4446720"/>
            <a:ext cx="2387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Use this area for recording specific commen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190440" y="2168640"/>
            <a:ext cx="2133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Use this column for checking key areas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9" name="Picture 16" descr=""/>
          <p:cNvPicPr/>
          <p:nvPr/>
        </p:nvPicPr>
        <p:blipFill>
          <a:blip r:embed="rId1"/>
          <a:stretch/>
        </p:blipFill>
        <p:spPr>
          <a:xfrm>
            <a:off x="2443320" y="1536840"/>
            <a:ext cx="3744720" cy="4843440"/>
          </a:xfrm>
          <a:prstGeom prst="rect">
            <a:avLst/>
          </a:prstGeom>
          <a:ln w="0">
            <a:noFill/>
          </a:ln>
        </p:spPr>
      </p:pic>
      <p:sp>
        <p:nvSpPr>
          <p:cNvPr id="140" name="Line 8"/>
          <p:cNvSpPr/>
          <p:nvPr/>
        </p:nvSpPr>
        <p:spPr>
          <a:xfrm flipH="1" flipV="1">
            <a:off x="6038640" y="4379400"/>
            <a:ext cx="758520" cy="341640"/>
          </a:xfrm>
          <a:prstGeom prst="line">
            <a:avLst/>
          </a:prstGeom>
          <a:ln w="2556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4327560" y="4083120"/>
            <a:ext cx="1716120" cy="536400"/>
          </a:xfrm>
          <a:prstGeom prst="ellipse">
            <a:avLst/>
          </a:prstGeom>
          <a:noFill/>
          <a:ln w="2556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2" name="Arc 11"/>
          <p:cNvSpPr/>
          <p:nvPr/>
        </p:nvSpPr>
        <p:spPr>
          <a:xfrm>
            <a:off x="2193840" y="2409840"/>
            <a:ext cx="612720" cy="770040"/>
          </a:xfrm>
          <a:custGeom>
            <a:avLst/>
            <a:gdLst>
              <a:gd name="textAreaLeft" fmla="*/ 0 w 612720"/>
              <a:gd name="textAreaRight" fmla="*/ 613080 w 612720"/>
              <a:gd name="textAreaTop" fmla="*/ 0 h 770040"/>
              <a:gd name="textAreaBottom" fmla="*/ 770400 h 7700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87abb9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4433760" y="2381400"/>
            <a:ext cx="1648080" cy="468000"/>
          </a:xfrm>
          <a:prstGeom prst="ellipse">
            <a:avLst/>
          </a:prstGeom>
          <a:noFill/>
          <a:ln w="2556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 flipH="1">
            <a:off x="5911920" y="2181240"/>
            <a:ext cx="614160" cy="263520"/>
          </a:xfrm>
          <a:prstGeom prst="line">
            <a:avLst/>
          </a:prstGeom>
          <a:ln w="2556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ing PSP0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gnment evaluation criteria for PSP0 and PSP0.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he proper forms are inclu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data are comple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ta are neat and self-consist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sure that all required artifacts are submit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80880" indent="-3808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cus on getting students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a process to guide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habit of tracking data while they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port complete, accurate, and consistent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e the Assign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e grading checklist, grade the student’s assign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925440" y="5173560"/>
            <a:ext cx="158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9536b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45 minut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3209760" y="4913280"/>
            <a:ext cx="56700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Did You Find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52" name="Object 3"/>
          <p:cNvGraphicFramePr/>
          <p:nvPr/>
        </p:nvGraphicFramePr>
        <p:xfrm>
          <a:off x="2666880" y="1650960"/>
          <a:ext cx="3864240" cy="43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50960"/>
                    <a:ext cx="3864240" cy="4361040"/>
                  </a:xfrm>
                  <a:prstGeom prst="rect">
                    <a:avLst/>
                  </a:prstGeom>
                  <a:ln w="12600">
                    <a:solidFill>
                      <a:srgbClr val="39536b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54" name="Picture 4" descr=""/>
          <p:cNvPicPr/>
          <p:nvPr/>
        </p:nvPicPr>
        <p:blipFill>
          <a:blip r:embed="rId3"/>
          <a:stretch/>
        </p:blipFill>
        <p:spPr>
          <a:xfrm>
            <a:off x="3987720" y="2106720"/>
            <a:ext cx="113688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ing PSP0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iscuss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problem did you have with PSP0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guidance did your instructor give to you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ere some of your PIP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as your state of mind?  How did you feel about PSP0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o you know now that you didn’t know the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n instructor, what problems do you expect to see and how will you recognize them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guidance will you giv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9120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0 and PSP 0.1 Common Errors </a:t>
            </a: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39680" y="1542960"/>
            <a:ext cx="74138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ime Lo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t tracking as they work (e.g. all entries rounded to nearest five or ten minutes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isunderstand “phase” vs. “activity” (e.g.  compile phase vs compiling when fixing a test defect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hases aren’t in the right order (e.g. design to test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isunderstand “iterative development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cluding wrong things as part of the assignment (e.g. % time distribution seems odd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oesn’t track interrupt time correctl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 Lo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scriptions are not descriptive or describe the symptom not the root caus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isunderstanding “fix time”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isunderstanding of “fix reference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xpect about 100 defect/KLOC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ong fix time without injecting additional defe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consistent between compile or test “phase” time and compile or test “fix” tim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60440" indent="-340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9786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0 and PSP 0.1 Common Errors </a:t>
            </a: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28520" y="15984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IP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mprovement suggestion doesn’t show insight into the personal process (e.g. try harder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80880" indent="-3808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lan Summar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ctual size data are inconsist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80880" indent="-3808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gram 2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gram counts lines with tabs or spaces as LOC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on’t follow their coding or counting standar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80880" indent="-3808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ize counting and coding standard repor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ports don’t force a logical LOC onto a physical LOC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PSP0 the students learn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a defined proces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accurate time and defect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size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curately measure siz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simple time and size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basic skills are critical to a student’s success and must be practiced to be understood and maste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will help you to understand the coaching and grading strategy for PSP0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0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s of PSP0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monstrate the use of a defined process in writing small progr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orporate basic process measur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 minimal changes to the engineer’s personal practi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17360" y="90144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eneral Grading Guidelin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50840" y="1709640"/>
            <a:ext cx="74138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 is high-quality data.  Poor data leads to poor learn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erify calcul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cus attention on new items.  Students generally will produce correct results after a single remind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not assume there is a problem.  Start  with the thought that incorrect data indicates there may be misunderstanding by you or the stud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ing on SEI Learning Porta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rcRect l="0" t="3560" r="44446" b="42505"/>
          <a:stretch/>
        </p:blipFill>
        <p:spPr>
          <a:xfrm>
            <a:off x="495360" y="1440000"/>
            <a:ext cx="4736880" cy="1989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rcRect l="0" t="5641" r="27778" b="20891"/>
          <a:stretch/>
        </p:blipFill>
        <p:spPr>
          <a:xfrm>
            <a:off x="1154160" y="4038480"/>
            <a:ext cx="7275600" cy="24256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5486400" y="2819520"/>
            <a:ext cx="304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lick on the </a:t>
            </a:r>
            <a:r>
              <a:rPr b="1" i="1" lang="en-US" sz="2000" spc="-1" strike="noStrike">
                <a:solidFill>
                  <a:srgbClr val="39536b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link under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My List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bring up the course assignment lis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05" name="Straight Arrow Connector 9"/>
          <p:cNvCxnSpPr>
            <a:stCxn id="104" idx="1"/>
          </p:cNvCxnSpPr>
          <p:nvPr/>
        </p:nvCxnSpPr>
        <p:spPr>
          <a:xfrm flipH="1" flipV="1">
            <a:off x="894600" y="3181320"/>
            <a:ext cx="4591800" cy="3006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106" name="Straight Arrow Connector 16"/>
          <p:cNvCxnSpPr>
            <a:stCxn id="104" idx="2"/>
          </p:cNvCxnSpPr>
          <p:nvPr/>
        </p:nvCxnSpPr>
        <p:spPr>
          <a:xfrm flipH="1">
            <a:off x="4630680" y="4142880"/>
            <a:ext cx="2379960" cy="8866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ect the Assign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rcRect l="0" t="5641" r="27778" b="20891"/>
          <a:stretch/>
        </p:blipFill>
        <p:spPr>
          <a:xfrm>
            <a:off x="457200" y="1682640"/>
            <a:ext cx="8229600" cy="27432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762120" y="5111640"/>
            <a:ext cx="746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grade an assignment, click on the assignment to bring up the list of student submissions. In this example, let’s look at Program 1 Assignment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10" name="Straight Arrow Connector 6"/>
          <p:cNvCxnSpPr>
            <a:stCxn id="109" idx="0"/>
          </p:cNvCxnSpPr>
          <p:nvPr/>
        </p:nvCxnSpPr>
        <p:spPr>
          <a:xfrm flipV="1">
            <a:off x="4495680" y="3816000"/>
            <a:ext cx="1524960" cy="12960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ect the Stud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0" t="22737" r="925" b="0"/>
          <a:stretch/>
        </p:blipFill>
        <p:spPr>
          <a:xfrm>
            <a:off x="457200" y="1674720"/>
            <a:ext cx="8153280" cy="2957760"/>
          </a:xfrm>
          <a:prstGeom prst="rect">
            <a:avLst/>
          </a:prstGeom>
          <a:ln w="0">
            <a:noFill/>
          </a:ln>
        </p:spPr>
      </p:pic>
      <p:cxnSp>
        <p:nvCxnSpPr>
          <p:cNvPr id="113" name="Elbow Connector 16"/>
          <p:cNvCxnSpPr/>
          <p:nvPr/>
        </p:nvCxnSpPr>
        <p:spPr>
          <a:xfrm flipH="1" flipV="1" rot="5400000">
            <a:off x="677520" y="5102280"/>
            <a:ext cx="1608840" cy="375480"/>
          </a:xfrm>
          <a:prstGeom prst="bentConnector3">
            <a:avLst>
              <a:gd name="adj1" fmla="val 99597"/>
            </a:avLst>
          </a:prstGeom>
          <a:ln w="12600">
            <a:solidFill>
              <a:srgbClr val="0070c0"/>
            </a:solidFill>
            <a:miter/>
            <a:tailEnd len="lg" type="stealth" w="lg"/>
          </a:ln>
        </p:spPr>
      </p:cxnSp>
      <p:sp>
        <p:nvSpPr>
          <p:cNvPr id="114" name="TextBox 4"/>
          <p:cNvSpPr/>
          <p:nvPr/>
        </p:nvSpPr>
        <p:spPr>
          <a:xfrm>
            <a:off x="533520" y="518004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see only students with ungraded assignments, click the </a:t>
            </a:r>
            <a:r>
              <a:rPr b="1" i="1" lang="en-US" sz="2000" spc="-1" strike="noStrike">
                <a:solidFill>
                  <a:srgbClr val="39536b"/>
                </a:solidFill>
                <a:latin typeface="Arial"/>
              </a:rPr>
              <a:t>Users with ungraded submission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radio butt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lick on a student name to view their assignment submiss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15" name="Elbow Connector 6"/>
          <p:cNvCxnSpPr/>
          <p:nvPr/>
        </p:nvCxnSpPr>
        <p:spPr>
          <a:xfrm flipH="1" flipV="1" rot="5400000">
            <a:off x="405360" y="4035600"/>
            <a:ext cx="1653480" cy="791280"/>
          </a:xfrm>
          <a:prstGeom prst="bentConnector3">
            <a:avLst>
              <a:gd name="adj1" fmla="val 98867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ownload and Gra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rcRect l="0" t="23640" r="0" b="0"/>
          <a:stretch/>
        </p:blipFill>
        <p:spPr>
          <a:xfrm>
            <a:off x="457200" y="1584360"/>
            <a:ext cx="8229600" cy="28018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533520" y="497844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ownload the student’s assignment zip file and use the appropriate grading checklist to record your grading commen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te, the grading checklists are downloaded from the course information pag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19" name="Straight Arrow Connector 5"/>
          <p:cNvCxnSpPr/>
          <p:nvPr/>
        </p:nvCxnSpPr>
        <p:spPr>
          <a:xfrm flipV="1">
            <a:off x="1498680" y="3784320"/>
            <a:ext cx="1256400" cy="1265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12Z</dcterms:modified>
  <cp:revision>216</cp:revision>
  <dc:subject/>
  <dc:title>No Slide Title</dc:title>
</cp:coreProperties>
</file>